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5e647"/>
                </a:solidFill>
                <a:latin typeface="Verdana"/>
              </a:rPr>
              <a:t>Click to move the slide</a:t>
            </a:r>
            <a:endParaRPr b="1" lang="en-US" sz="2600" spc="-1" strike="noStrike">
              <a:solidFill>
                <a:srgbClr val="f5e647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F9BF-A98E-4598-BAB3-94BCD7E49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AC29-16C5-44A5-81E5-E22477E2B45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endinizi tanıtın. Forum sürecine ilişkin kısa bilgi veri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8250-DC83-4992-A835-1E083184CC2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tkinlik 1 Adım 1’deki etkinliği yaptırın. Katılımcıların bazılarına (istekliler kadar isteksizlere de söz hakkı verin ve deneyimlerini paylaşmalarını isteyi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nra Adım 2’deki etkinlikleri yapmalarını isteyin. Okul Kültüründe Değişim sunusunun CD’nin Forum Araçları seçeneği altında yer aldığını vurgulayı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5311-DFEF-4D46-8C6E-CBC80A6A9A0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blonun anlaşılmayan yönlerini açıklayı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B202-7B40-4E34-9924-FDDC1222097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nlar üzerinde durduktan sonra katılımcıların sonraki slaytlarda yer alan soruları cevaplamalarını sağlayın. Sınıf için anket niteliğinde yapabilir ya da ellerine dağıtarak doldurmalarını isteyebilirsiniz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C73E-44FD-4D15-BC6F-133A0177A13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728B-1E6D-4A3B-B1FD-FA25243D568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AD5E-CCB4-4A76-9F92-7988FC70306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F594-20A4-4A2F-A41E-29CDC46B542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04FC-8142-4CEE-835F-F510F2A2894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5870-F990-4CE2-880C-C2CF23951D4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2B4C-75E5-4FB3-B7DD-A01E91E65CE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9290-5BF1-4F20-9295-3FE964D172F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şlangıç modülündeki ilk etkinlikte yer alan açıklamaları okuyarak soruların cevaplarını aramalarını isteyi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ir kaç katılımcıya söz hakkı verdikten sonra bir sonraki slayta geçi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F47A-156A-4026-A9A0-18AD545420E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AE9E-3115-4674-8E47-3E7FAB1897C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2669-7FA6-47EB-9C13-7F2EB226F3E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derlerin/Yöneticilerin teknoloji kullanımı konusunda kendilerini rahat hissetmeleri ve günlük işlerinde kullanmaları öğretmenler üzerinde nasıl bir etki oluşturu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Bu tür bir soru sorarak katılımcıların fikirlerini alı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F0F1-0EB7-4EA9-8718-6E9E1B5FA91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Öğrenme-öğretme süreçlerinde teknolojiden daha fazla yararlanmayı sağlamak, hangi yönetici işlevlerinden/konulardan önce hangilerinden sonra konumlandırılmalıdır? Öncelikler ne olmalıdır? Teknolojinin yaygınlaştırılması bu öncelik listesinde nerede yer almalıdı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Katılımcıların bu sorular ailişkin fikirlerini alabilirsiniz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3A19-398F-418B-96C5-69C173F3AA2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ir yönetici A’dan B’ye, B’den C’ye ve C’den D’ye nasıl ilerleyebilir? Neler yapması gereki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Katılımcılara söz hakkı verebilirsiniz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394B-11C1-4131-B0B6-02FA7DFD51A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  <a:ea typeface="굴림"/>
              </a:rPr>
              <a:t>Katılımcıların okumadan önce yukarıdaki soruları tartışmalarını sağlayınız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  <a:ea typeface="굴림"/>
              </a:rPr>
              <a:t>Sonra okumalarını sağlayınız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  <a:ea typeface="굴림"/>
              </a:rPr>
              <a:t>Değerlendirme sonuçları konusunda görüşlerini alınız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AF65-A638-4383-AB02-355D8CBBC58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5285-5801-4FEE-9269-E19AC1F377A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F3A5-FE66-4CB0-8F18-4C06D783E51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atılımcıların CD’yi incelemelerine fırsat verin. CD de yer almasını düşündükleri ya da meslektaşlarıyla paylaşmak istedikleri başka kaynaklar varsa. Size ulaştırmalarını sağlayı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1511-D30B-4D70-9E47-7A4374DBE1D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re’s the Genel Bakış for our exploration time. We’ve supplied you with all the Web addresses we use in the forum, plus a lot of other resources, on a CD. Locate your Resource CD in the back of your manual, and let’s follow the directions for this Etkinlik, beginning on Modül 2.05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ve participants insert the CD and direct them to work from 2.05 in their manual.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ocalization suggestion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e length of this Etkinlik depends on the agenda you have selected for the forum. If you are using a longer agenda, extend the length of this exploration time so participants can explore all that is available at the Intel® Education Web site, as well as other resources you have selected that showcase best practices. If you are working with a shorter agenda (i.e. 4 hours), follow the recommended agenda for exploration time.]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Go to the next slid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B377-542B-4D92-8306-736403B0682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atılımcıların okumasına izin verin. Burada FORUM kavramı, paylaşımın önemi ve uygulama topluluklarının önemini vurgulayı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DDE6-A221-423E-8AF0-C560CFFAADD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e’ll come back to these Sorus after you do some looking around.  You’ll have a chance to work with a partner, but know that we’re aiming at the last Soru in particular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. Provide time for exploration and additional time for participants to take a break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. After the exploration and break time, call the group back together (from their individual work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. Ask participants to consider these Sorus and discuss with a partner (or set up small groups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. After the pair or small group discussions, conduct a large group discussion. Remember to focus particularly on the third Sor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ocalization suggestion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e length of this discussion depends on the agenda you have selected for the forum. If you are using a longer agenda, extend the length of this discussion time so participants can discuss all Sorus together and have a large group discussion. If you are working with a shorter agenda (i.e. 4 hours), keep this discussion time shorter (around 15-20 minutes).]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A168-AFC7-4F49-BD21-25446C1BD2E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5432-3BB1-4B92-995A-71354704790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Bu etkinlikte Web 2.0 ve Web 1.0 arasındaki farka odaklanılmalı ve kolay kullanım sağladığı üzerinde durulmalıdır. Bu arada Web 3.0 ve Web 4.0 üzerinde çalışıldığı ifade edilmelidir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757A-03BD-435A-BD83-181207F1BF0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Bu etkinlikte Web 2.0 ve Web 1.0 arasındaki farka odaklanılmalı ve kolay kullanım sağladığı üzerinde durulmalıdır. Bu arada Web 3.0 ve Web 4.0 üzerinde çalışıldığı ifade edilmelidir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D527-6BBE-408E-839F-F77BFD63F65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3DEF-2C45-4BB3-A69A-EF86DD8E2E5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9CE0-A052-40D6-8028-6D99B430236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rada Görsel sıralama aracının nasıl çalıştığını çevrimiçi ortamda gösteri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BEE9-2FC7-4103-B749-03AD6622596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akım halinede çalışmalarını sağlayı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8C7C-F270-43D5-8427-0B090FF504C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Eğitici lider sunu öncesinde buraya adınızı yazmalı, takım kodları ve şifreleri oluşturmalısınız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514A-F96F-4E1C-B5A8-57AB8FC8547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Farklı grupların çalışmaları karşılaştıklarında neler bulduklarını aktarmalarına izin verin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Takımların sıralamalarda ortaya çıkan farklılıkların nedenlerini tartışmalarına izin verin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Son olarak görsel sıralama aracına ilişkin katılımcıların görüşlerini alın. Yararlı buluyorlar mı? Yönetim ya da öğretim süreçlerinde  kullanmak isterler mi? Kullanabilirler mi? Ne tür etkinlikler yaptırabilirler?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AE61-74C6-43C6-8A58-85ACA795C3B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atılımcıların birer kağıt alarak beklentilerini yazmalarını isteyin. Sonra bunları toplayarak biraraya getirin. Bu listeyi Forum sonunda kullanmak üzere saklayın. 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3684-1D87-4C86-95AF-49E8074FF70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üyük grupla bu sıralamayı tartışın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F21D-95E5-410A-B4F6-57D03FFE74C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Gerekirse web sitelerini incelemelerini sağlayın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CE7A-2D3E-439F-823D-0B093D940F2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Altı alanda sınıflandırıldığını vurgulayın. CD’den Görsel Sırlamayı açarak katılımcıların ayrıntılı incelemelerini sağlayın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2811-FC9B-47C9-9301-97D02752E54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5E29-598D-4BA2-8799-85D050E5CB0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tr-TR" sz="1200" spc="-1" strike="noStrike">
                <a:solidFill>
                  <a:srgbClr val="000000"/>
                </a:solidFill>
                <a:latin typeface="Verdana"/>
              </a:rPr>
              <a:t>atılımcılara sorarak geribildirim alın. Yanlış anlaşılmaları belirleyebilir ve gidermek için zaman ayırabilirsiniz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E5EA-AD82-4254-A255-DC82958C004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7E44-3526-4408-85A2-9CDB860D189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e now turn to your opportunity to start building your own action plan. These are the Sorus that drive Modül 4 and are on the Modül 4 Genel Bakış page. Note the objectives there which interact with the Soru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Go to the next slid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3406-FEA6-47F6-BE34-5EE9360658F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C7FF-20CA-4630-92AD-2D590777566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Birlikte inceleyin. İsterlerse eklerdeki örnekleri ayrıntılı incelemelerini isteyiniz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A0E3-9FFB-4C1F-BD62-6E745A5B5B5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2100-F171-4C9E-956B-4A115799B36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atılımcıların okumasına izin verin. Siz okumadan özetlemeye çalışın. Eylem Planlarını bitiremeyebileceklerini ancak başlamalarının önemli olduğunu vurgulayı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 slaytta ayrıca, Türkiye’deki değerlendirme çalışmalarında özellikle Okul Müdürü ve İl Yöneticilerinin teknolojiye olan tanışıklık ve ilgilerinin öğretmen eğitimleri üzerindeki etkisinden sözedebilirsiniz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6705-4B89-4B5D-9FA9-2159AFFCE87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Katılımcıların eylem planlarını bir başka katılımcıyla eşleşerek paylaşmalarını ve yukarıdaki soruların cevaplarını birlikte araştırmalarını sağlayı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Bazı eşleş paylaş gruplarına söz vererek tüm grupla soruların cevaplarını paylaşmalarını sağlayı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5BD7-DC19-4392-BEBF-338C536532D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732E-D0CB-4C86-B990-BA5CB33E89B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C5F6-0CB6-47BB-8BFB-4E2BAF207A2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Üm katılımcıların çevrimiçi anketi doldurmasını sağlayın. Bu anketin yalnızca Forumu değerlendirmek için olduğunu daha sonra etki analizi yapılacağını belirti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Bu arada forumun ilk etkinliklerinde katılımcıların belirttikleri beklentilere geri dönerek ne ölçüde karşılandığını tartışabilirsiniz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5F38-A2E0-4DFB-8BF1-5954D5CE532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4284-70D3-4050-8201-D7DA354FCBB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C7DB-F074-4EB6-9FC9-8F7ACC382EA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atılımcıların kendilerini tanıtmalarına imkan verin ve notlar alı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28E0-D132-4EE9-A5AF-7A5EA1861E5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Bu slaytta standart alanlarını daha sonra ayrıntılı inceleyeceğinizi ve planların kısa, orta ve uzun vadeli olması gerektiğini belirtin. Kitaptaki açıklamaları açımlamaya çalışı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98AC-D02C-4DFF-936A-C9481FC1884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Günlük Forum planını bu arada aktartabilirsiniz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847BA-E5EB-470F-A8C6-D455379B80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ECC51-4141-4052-970E-A00176FF67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2CF37-48D0-4483-887E-701F67F85B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FEB8A-9BF9-4ED4-8374-0169D129D5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07E0C-5EFC-4682-AEBE-B715EB2194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DA412-A853-482A-8785-1C2117AEC2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067AF-A167-4D55-8C64-5FF22520C9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96B3B-1969-4DEE-9B6A-28225CBD91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53124-1A75-40BF-A223-0AC906BAA5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76BEB-F805-469F-BA30-685141F8FA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6B4FB-4100-4561-94CC-44CC6ACC2F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4E9B0-B9B1-480E-86E6-5D8380E28D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9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4534-DD8D-468C-A76B-72738F2A9750}" type="slidenum">
              <a:rPr b="1" lang="en-US" sz="800" spc="-1" strike="noStrike">
                <a:solidFill>
                  <a:srgbClr val="00009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Text Box 28"/>
          <p:cNvSpPr/>
          <p:nvPr/>
        </p:nvSpPr>
        <p:spPr>
          <a:xfrm>
            <a:off x="1079640" y="6108840"/>
            <a:ext cx="4711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" name="Picture 8" descr="intel.tiff"/>
          <p:cNvPicPr/>
          <p:nvPr/>
        </p:nvPicPr>
        <p:blipFill>
          <a:blip r:embed="rId2"/>
          <a:stretch/>
        </p:blipFill>
        <p:spPr>
          <a:xfrm>
            <a:off x="8102520" y="6076800"/>
            <a:ext cx="1041480" cy="7621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MEB.tiff"/>
          <p:cNvPicPr/>
          <p:nvPr/>
        </p:nvPicPr>
        <p:blipFill>
          <a:blip r:embed="rId3"/>
          <a:stretch/>
        </p:blipFill>
        <p:spPr>
          <a:xfrm>
            <a:off x="7311960" y="6058080"/>
            <a:ext cx="787320" cy="79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3"/>
          <p:cNvSpPr/>
          <p:nvPr/>
        </p:nvSpPr>
        <p:spPr>
          <a:xfrm>
            <a:off x="484200" y="654840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5e647"/>
                </a:solidFill>
                <a:latin typeface="Verdana"/>
              </a:rPr>
              <a:t>© 2006 Intel Corporation. All rights reserved. Intel and the Intel logo are trademarks or registered trademarks of Intel Corporation 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5e647"/>
                </a:solidFill>
                <a:latin typeface="Verdana"/>
              </a:rPr>
              <a:t>or its subsidiaries in the United States and other countries. 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" name="Picture 11" descr="Kitap Banner.jpg"/>
          <p:cNvPicPr/>
          <p:nvPr/>
        </p:nvPicPr>
        <p:blipFill>
          <a:blip r:embed="rId2"/>
          <a:stretch/>
        </p:blipFill>
        <p:spPr>
          <a:xfrm>
            <a:off x="519120" y="1992240"/>
            <a:ext cx="8317080" cy="2683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5e647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5e647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5e647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f5e647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5e647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f5e647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5e647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f5e647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5e647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f5e647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5e647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5e647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5e647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5e647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5e647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educate.intel.com/tr/thinkingtools/visualrankin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http://www.hmh-degerlendirme.com/intel/foru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4935240"/>
            <a:ext cx="8766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99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262699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262699"/>
                </a:solidFill>
                <a:latin typeface="Verdana"/>
              </a:rPr>
              <a:t> </a:t>
            </a:r>
            <a:r>
              <a:rPr b="1" lang="tr-TR" sz="3600" spc="-1" strike="noStrike">
                <a:solidFill>
                  <a:srgbClr val="262699"/>
                </a:solidFill>
                <a:latin typeface="Verdana"/>
              </a:rPr>
              <a:t>Öğretmen</a:t>
            </a:r>
            <a:r>
              <a:rPr b="1" lang="en-US" sz="3600" spc="-1" strike="noStrike">
                <a:solidFill>
                  <a:srgbClr val="262699"/>
                </a:solidFill>
                <a:latin typeface="Verdana"/>
              </a:rPr>
              <a:t> Program</a:t>
            </a:r>
            <a:r>
              <a:rPr b="1" lang="tr-TR" sz="3600" spc="-1" strike="noStrike">
                <a:solidFill>
                  <a:srgbClr val="262699"/>
                </a:solidFill>
                <a:latin typeface="Verdana"/>
              </a:rPr>
              <a:t>ı</a:t>
            </a:r>
            <a:endParaRPr b="1" lang="en-US" sz="3600" spc="-1" strike="noStrike">
              <a:solidFill>
                <a:srgbClr val="f5e64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5601960"/>
            <a:ext cx="876600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262699"/>
                </a:solidFill>
                <a:latin typeface="Verdana"/>
              </a:rPr>
              <a:t>Liderlik</a:t>
            </a:r>
            <a:r>
              <a:rPr b="0" lang="en-US" sz="3600" spc="-1" strike="noStrike">
                <a:solidFill>
                  <a:srgbClr val="262699"/>
                </a:solidFill>
                <a:latin typeface="Verdana"/>
              </a:rPr>
              <a:t> Forum</a:t>
            </a:r>
            <a:r>
              <a:rPr b="0" lang="tr-TR" sz="3600" spc="-1" strike="noStrike">
                <a:solidFill>
                  <a:srgbClr val="262699"/>
                </a:solidFill>
                <a:latin typeface="Verdana"/>
              </a:rPr>
              <a:t>u</a:t>
            </a:r>
            <a:endParaRPr b="0" lang="en-US" sz="3600" spc="-1" strike="noStrike">
              <a:solidFill>
                <a:srgbClr val="f5e647"/>
              </a:solidFill>
              <a:latin typeface="Verdana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6465960"/>
            <a:ext cx="914400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Picture 4" descr="intel.tiff"/>
          <p:cNvPicPr/>
          <p:nvPr/>
        </p:nvPicPr>
        <p:blipFill>
          <a:blip r:embed="rId1"/>
          <a:stretch/>
        </p:blipFill>
        <p:spPr>
          <a:xfrm>
            <a:off x="7574040" y="635040"/>
            <a:ext cx="1041480" cy="762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MEB.tiff"/>
          <p:cNvPicPr/>
          <p:nvPr/>
        </p:nvPicPr>
        <p:blipFill>
          <a:blip r:embed="rId2"/>
          <a:stretch/>
        </p:blipFill>
        <p:spPr>
          <a:xfrm>
            <a:off x="382680" y="587520"/>
            <a:ext cx="78732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A0CD-4D86-40B1-8A9B-8BD1F6CA4A2A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1 | Etkinlik 1: 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Paradigma Değişimini Fark Etme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aradigma, herhangi bir alanda yerleşik yazılı ve yazılı olmayan tüm kurallar ve uygulamala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ünlük yaşamda paradigma değişim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ğitimde paradigma değişim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DCC2-4751-4E1C-BC46-4349D576E065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1 | Etkinlik 2: 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Değişimi Yönetme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4" descr="book31.tiff"/>
          <p:cNvPicPr/>
          <p:nvPr/>
        </p:nvPicPr>
        <p:blipFill>
          <a:blip r:embed="rId1"/>
          <a:stretch/>
        </p:blipFill>
        <p:spPr>
          <a:xfrm>
            <a:off x="461880" y="1208160"/>
            <a:ext cx="5759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A11C-A05D-44E7-A4AD-816B63138C53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1 | Etkinlik 2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Varsayımlar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Öğretmenlerin etkililiğini destekleyen liderler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…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a6cae1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Teknolojini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önemli olduğuna ve öğrenme ve öğretmede </a:t>
            </a: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fark yarattığına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anır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eknoloji ve öğretmenleri destekleme konularında </a:t>
            </a: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isteklidir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unun öğrenciler için </a:t>
            </a: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yapılacak doğru şey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lduğuna inanı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9389-A89A-44BF-94D4-1E124A532D97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1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Şimdiki görevim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Müdü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Müdür Yardımcıs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İl Milli Eğitim Müdür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İl Milli Eğitim Müdür Yardımcıs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Müfredat Yöneticis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eknoloji Koordinatör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Diğ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C1B3-3BA4-4913-9C10-74F40885B9E7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2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Liderlikteki deneyimim (kaç yıllık lider olduğum)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-5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ıl aras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6-10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ıl aras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1-15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ıl aras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6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a da daha fazla yı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3B25-F92A-4874-9967-68D49111BA96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3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Hangisi görev yaptığım kademeyi en iyi açıklar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İlköğretim 1. Kade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İlköğretim 2. Kade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Ortaöğreti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İl Müdürlüğ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irden fazla kade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53FC-CC53-4DD0-98D9-33F22BBD6FFC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4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Vazgeçemeyeceğim takvim: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ağıttı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le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tronikti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09F8-60BD-4885-937C-280DFDB6205A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5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e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ktronik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iletişim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(e-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posta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) 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trafiğim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Çok az posta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önderim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alım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aftada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 e-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posta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ele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ide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er gün en az yarım saat ayırırım, her hafta iki yüzden fazla e-posta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E-posta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ayatımın büyük bölümünü kapsıy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0852-9783-422A-8265-DFDD25AB6015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6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Bilgisayarda kelime işlemci programını kullanma amacım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içbirşey içi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irkaç kaba taslak yazmak için, ama her hafta değil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afta boyunca düzenli olarak epeyc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Not almak, taslak hazırlamak, takvim oluşturmak ve gündem belirlemek vb. için her gü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2900-E03E-496C-ABCA-2F0BA0A0BCFE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7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Elektronik sunular ile ilişkim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alnızca izleri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irkaç tane yapmayı denedim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10’dan az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10’dan fazlası için yardım ettim ya da yardım aldı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Onları kullanmadan önce nasıl çalışıyormuşum hatırlamıyorum bi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CAB6-BF21-4C5D-A948-C6C9BCB90566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Başlarken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Forumu Tanıma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mel Soru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ğitim liderleri, öğrencilerin başarılarını arttırmak amacıyla, öğretmenlerin daha etkili öğretim süreçleri yürütmelerine nasıl yardımcı olabilirler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Sorula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Öğretmen Programı Liderlik Forumu’nun temel amacı nedir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Forum sonunda neler kazanmış olacaksınız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3936-642E-490D-907F-FCE9BCB77196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8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Bir avuç içi bilgisayarı/aracı kullanma sıklığım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Nadir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Ara sır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er gü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er anı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BB6C-5DF1-455C-AFBC-0A269AA38E67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9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Bir Web 2.0 aracını (Web Günlüğü, Wiki, Facebook vb.)  kullanma sıklığım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Nadir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Ara sır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er gü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er anı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210B-A56E-4BFE-8D20-0D0CDE204AC8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10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Teknoloji kullanımında kişisel üretkenliğimi ve etkililiğimi geliştirmek için yeterlik düzeyim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etersiz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ağıdım kalemim nerede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iraz yeterl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eknolojiyi severim ama öğrenmeye zamanım yo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eterl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eknoloji bana yardımcı olur ve teknolojileri, nasıl kullanabileceğimi tanımaktan memnunluk duyarım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eterli ötes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eni çıkacak teknoloji ürünlerini beklerken sabırsızlanıyorum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C399-AA97-435A-9E27-33457B3A3206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11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Öğretim süreçleri için sınıfta teknoloji kullanımıyla ilgili bilgi düzeyim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Çok az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nasıl bir şey olduğundan pek emin değili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Orta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Sanırım gördüğümde ne olduğunu anlayabilirim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İy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Ne aradığımı iyi biliri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Uzman düzey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Öğretmenlerime öğretim süreçlerinde teknolojiyi kullanma konusunda eğitim verebiliri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11BD-708B-4797-BCBD-E4CDE3599E8D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12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Öğretmenlerime sınıfta günlük derslerinde teknoloji kullanımlarına yardımcı olmadaki yeterlik düzeyim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Çok düşük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Sınıflarda teknolojiyle ilgili olarak nelerin işe yarayacağından pek emin değilim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Düzeliyor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irkaç şeyi biliyorum ve birşeyler öğreniyorum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endinden emi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eknoloji ile öğretim konusunda iyi durumdayım ama halihazırda buna ilişkin bir planım yo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iderek gelişmekt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ir planım var ve çalışarak plan üzerinde ilerliyoru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B6F0-BE8F-4DD3-9697-F6B94CE20CCE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1 | Etkinlik 3</a:t>
            </a:r>
            <a:br>
              <a:rPr sz="2600"/>
            </a:br>
            <a:r>
              <a:rPr b="1" lang="en-US" sz="2600" spc="-1" strike="noStrike">
                <a:solidFill>
                  <a:srgbClr val="a6cae1"/>
                </a:solidFill>
                <a:latin typeface="Verdana"/>
              </a:rPr>
              <a:t>Intel</a:t>
            </a:r>
            <a:r>
              <a:rPr b="1" lang="en-US" sz="2600" spc="-1" strike="noStrike" baseline="30000">
                <a:solidFill>
                  <a:srgbClr val="a6cae1"/>
                </a:solidFill>
                <a:latin typeface="Verdana"/>
              </a:rPr>
              <a:t>®</a:t>
            </a:r>
            <a:r>
              <a:rPr b="1" lang="en-US" sz="2600" spc="-1" strike="noStrike">
                <a:solidFill>
                  <a:srgbClr val="a6cae1"/>
                </a:solidFill>
                <a:latin typeface="Verdana"/>
              </a:rPr>
              <a:t> </a:t>
            </a: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Öğretmen Programını Anlama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Neden Intel eğitime yatırım yapmaktadır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1800" spc="-1" strike="noStrike" baseline="30000">
                <a:solidFill>
                  <a:srgbClr val="a6cae1"/>
                </a:solidFill>
                <a:latin typeface="Verdana"/>
              </a:rPr>
              <a:t>®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 Ö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ğ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retmen Programını nasıl buluyorsunuz? Neden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98A9-DC5A-4ECA-8EE6-DCD63EF41B2F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74840" y="29196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1 | Etkinlik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3</a:t>
            </a:r>
            <a:br>
              <a:rPr sz="2600"/>
            </a:br>
            <a:r>
              <a:rPr b="1" lang="en-US" sz="2600" spc="-1" strike="noStrike">
                <a:solidFill>
                  <a:srgbClr val="a6cae1"/>
                </a:solidFill>
                <a:latin typeface="Verdana"/>
              </a:rPr>
              <a:t>Intel</a:t>
            </a:r>
            <a:r>
              <a:rPr b="1" lang="en-US" sz="2600" spc="-1" strike="noStrike" baseline="30000">
                <a:solidFill>
                  <a:srgbClr val="a6cae1"/>
                </a:solidFill>
                <a:latin typeface="Verdana"/>
              </a:rPr>
              <a:t>®</a:t>
            </a:r>
            <a:r>
              <a:rPr b="1" lang="en-US" sz="2600" spc="-1" strike="noStrike">
                <a:solidFill>
                  <a:srgbClr val="a6cae1"/>
                </a:solidFill>
                <a:latin typeface="Verdana"/>
              </a:rPr>
              <a:t> </a:t>
            </a: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Öğretmen Programını Anlama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2000 yılında piyasaya sürülmüş dünya çapında yaygın bir programdı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35 ülkede 3 milyondan fazla öğretmen bu programla eğitimden geçmişti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Program, öğrenci başarısını desteklemek için öğretmen etkinliğini geliştirme ve bu süreçte teknoloji araçlarının kullanımı konularının ötesine geç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BD22-01D5-4A78-991E-DE7380A33A32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1 | Etkinlik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3</a:t>
            </a:r>
            <a:br>
              <a:rPr sz="2600"/>
            </a:br>
            <a:r>
              <a:rPr b="1" lang="en-US" sz="2200" spc="-1" strike="noStrike">
                <a:solidFill>
                  <a:srgbClr val="a6cae1"/>
                </a:solidFill>
                <a:latin typeface="Verdana"/>
              </a:rPr>
              <a:t>Intel</a:t>
            </a:r>
            <a:r>
              <a:rPr b="1" lang="en-US" sz="2200" spc="-1" strike="noStrike" baseline="30000">
                <a:solidFill>
                  <a:srgbClr val="a6cae1"/>
                </a:solidFill>
                <a:latin typeface="Verdana"/>
              </a:rPr>
              <a:t>®</a:t>
            </a:r>
            <a:r>
              <a:rPr b="1" lang="en-US" sz="2200" spc="-1" strike="noStrike">
                <a:solidFill>
                  <a:srgbClr val="a6cae1"/>
                </a:solidFill>
                <a:latin typeface="Verdana"/>
              </a:rPr>
              <a:t> </a:t>
            </a:r>
            <a:r>
              <a:rPr b="1" lang="tr-TR" sz="2200" spc="-1" strike="noStrike">
                <a:solidFill>
                  <a:srgbClr val="a6cae1"/>
                </a:solidFill>
                <a:latin typeface="Verdana"/>
              </a:rPr>
              <a:t>Öğretmen</a:t>
            </a:r>
            <a:r>
              <a:rPr b="1" lang="en-US" sz="2200" spc="-1" strike="noStrike">
                <a:solidFill>
                  <a:srgbClr val="a6cae1"/>
                </a:solidFill>
                <a:latin typeface="Verdana"/>
              </a:rPr>
              <a:t> Program</a:t>
            </a:r>
            <a:r>
              <a:rPr b="1" lang="tr-TR" sz="2200" spc="-1" strike="noStrike">
                <a:solidFill>
                  <a:srgbClr val="a6cae1"/>
                </a:solidFill>
                <a:latin typeface="Verdana"/>
              </a:rPr>
              <a:t>ı için Temel Değerlendirme Bulguları </a:t>
            </a:r>
            <a:r>
              <a:rPr b="1" lang="en-US" sz="2200" spc="-1" strike="noStrike">
                <a:solidFill>
                  <a:srgbClr val="a6cae1"/>
                </a:solidFill>
                <a:latin typeface="Verdana"/>
              </a:rPr>
              <a:t>**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önetsel destek önemlidir ama çeşitlilik gösterir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Destek çoğunlukla şunlarla sınırlıdı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e</a:t>
            </a:r>
            <a:r>
              <a:rPr b="0" lang="tr-TR" sz="1600" spc="-1" strike="noStrike">
                <a:solidFill>
                  <a:srgbClr val="ffffff"/>
                </a:solidFill>
                <a:latin typeface="Verdana"/>
              </a:rPr>
              <a:t>knik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1600" spc="-1" strike="noStrike">
                <a:solidFill>
                  <a:srgbClr val="ffffff"/>
                </a:solidFill>
                <a:latin typeface="Verdana"/>
              </a:rPr>
              <a:t>kaynakla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Verdana"/>
              </a:rPr>
              <a:t>Teknik destek personel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9B01-B5B0-4230-8005-0CD7D4DC40AB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dül 1 | Etkinlik 4</a:t>
            </a:r>
            <a:br>
              <a:rPr sz="2400"/>
            </a:br>
            <a:r>
              <a:rPr b="1" lang="tr-TR" sz="2400" spc="-1" strike="noStrike">
                <a:solidFill>
                  <a:srgbClr val="a6cae1"/>
                </a:solidFill>
                <a:latin typeface="Verdana"/>
              </a:rPr>
              <a:t>Kaynakları Gözden Geçirmek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aynak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CD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’yi yerleştiri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a6cae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Buradan Başlayın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’a tıklayın ve sonra </a:t>
            </a: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CD’yi Başlatın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’a tıklayı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CD içinde yer alan kaynakları inceleyiniz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aynal CD için önerebileceğiniz kaynaklar varsa bunları not alıp Eğitici Liderinize ulaştırı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E6AA-295C-4ADC-9C9A-BDC631B315F1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5760" y="2001960"/>
            <a:ext cx="8237520" cy="37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aynak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CD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’yi yerleştiri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a6cae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Buradan Başlayın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’a tıklayın ve sonra </a:t>
            </a: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CD’yi Başlatın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’a tıklayı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Sol bölmedeki </a:t>
            </a:r>
            <a:r>
              <a:rPr b="1" lang="en-US" sz="1800" spc="-1" strike="noStrike">
                <a:solidFill>
                  <a:srgbClr val="a6cae1"/>
                </a:solidFill>
                <a:latin typeface="Verdana"/>
              </a:rPr>
              <a:t>Forum </a:t>
            </a: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Araçlarını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ve sonra da </a:t>
            </a:r>
            <a:r>
              <a:rPr b="1" lang="en-US" sz="1800" spc="-1" strike="noStrike">
                <a:solidFill>
                  <a:srgbClr val="a6cae1"/>
                </a:solidFill>
                <a:latin typeface="Verdana"/>
              </a:rPr>
              <a:t>Forum Web Sites</a:t>
            </a: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ini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ıklayı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Bağlantılar üzerine tıklayarak kaynaklara ulaşın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eb siteler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nin içinde dolaşarak ve kitabınızdaki yönergeleri takip ederek kaynakları keşfetmeye çalışın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odül 1 | Etkinlik 5</a:t>
            </a:r>
            <a:br>
              <a:rPr sz="2800"/>
            </a:br>
            <a:r>
              <a:rPr b="1" lang="en-US" sz="2600" spc="-1" strike="noStrike">
                <a:solidFill>
                  <a:srgbClr val="a6cae1"/>
                </a:solidFill>
                <a:latin typeface="Verdana"/>
              </a:rPr>
              <a:t>Teknoloji Kullanımına Yönelik Web Kaynaklarını Saptamak</a:t>
            </a:r>
            <a:br>
              <a:rPr sz="2400"/>
            </a:b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D53C-C2AE-441F-913A-12363ABD451F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26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®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Öğretmen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Programı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Liderlik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Forum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u,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teknolojinin öğretim ve yönetim süreçlerinde bir araç olarak etkili kullanımını teşvik etmek, desteklemek ve model olmak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konularında size yardımcı olmak amacıyla oluşturulmuştur.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Başlarken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|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Etkinlik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1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Temel Amaç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20C7-6E04-4138-A84B-9B3451164184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dül 1 | Etkinlik 5</a:t>
            </a:r>
            <a:br>
              <a:rPr sz="2400"/>
            </a:br>
            <a:r>
              <a:rPr b="1" lang="en-US" sz="2400" spc="-1" strike="noStrike">
                <a:solidFill>
                  <a:srgbClr val="a6cae1"/>
                </a:solidFill>
                <a:latin typeface="Verdana"/>
              </a:rPr>
              <a:t>Teknoloji Kullanımına Yönelik Web Kaynaklarını Saptamak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760" y="2136600"/>
            <a:ext cx="8237520" cy="35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angi kaynakları yararlı buldunuz? Neden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angi ünite planları ilginizi çekti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Öğretmenlere teknoloji kullanımı konusunda yardımcı olurken bu kaynaklar nasıl bir yarar sağlar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A354-A293-4802-ADBE-407E93AD8EFA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2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Web 2.0 Araçlarını Keşfetme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Modül Soruları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Web 2.0 teknolojilerini, okulumun ya da ilimin/ilçemin teknoloji planları içine nasıl entegre edebilirim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Öğretmenler ve öğrenciler küresel topluluklarla iletişim kurabilmek, öğrenme- öğretme süreçlerini geliştirebilmek için hangi araçları kullanabilirler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Web 2.0 araçları öğretmenlerle, ailelerle, öğrencilerle ve toplum üyeleriyle gerçekleştirilen günlük iletişime nasıl bir katkı sağlar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F573-4D06-4B3B-B359-603EB7FE81A7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odül 2 | Etkinlik 1</a:t>
            </a:r>
            <a:br>
              <a:rPr sz="2800"/>
            </a:br>
            <a:r>
              <a:rPr b="1" lang="en-US" sz="2800" spc="-1" strike="noStrike">
                <a:solidFill>
                  <a:srgbClr val="a6cae1"/>
                </a:solidFill>
                <a:latin typeface="Verdana"/>
              </a:rPr>
              <a:t>Web 2.0 Araçlarını Anlamak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Okulunuzda ya da ilinizde/ilçenizde Web 2.0 araçlarını kullanıyor musunuz? Nası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AE53-E809-48C4-A27E-A48A5D5E076B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odül 2 | Etkinlik 3</a:t>
            </a:r>
            <a:br>
              <a:rPr sz="2800"/>
            </a:br>
            <a:r>
              <a:rPr b="1" lang="en-US" sz="2800" spc="-1" strike="noStrike">
                <a:solidFill>
                  <a:srgbClr val="a6cae1"/>
                </a:solidFill>
                <a:latin typeface="Verdana"/>
              </a:rPr>
              <a:t>Web 2.0 Araçları Belirlemek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İnternette araştırma yaparak farklı Web 2.0 araçlarını (Yack Pack, You TUBE, Delicious, vb.) ve örneklerini (Blogcu, Wikispaces, Google sites, vb.) katılımcılarla paylaşınız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925C-24D9-4167-A4B3-15A5C9BF5F30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ül 3</a:t>
            </a:r>
            <a:br>
              <a:rPr sz="2200"/>
            </a:br>
            <a:r>
              <a:rPr b="1" lang="tr-TR" sz="2000" spc="-1" strike="noStrike">
                <a:solidFill>
                  <a:srgbClr val="a6cae1"/>
                </a:solidFill>
                <a:latin typeface="Verdana"/>
              </a:rPr>
              <a:t>Liderlik Davranış ve Standartlarını İncelemek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Sınıfta teknoloji kullanımının nasıl olduğunu görmemiz için bir fırsat olarak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, Modül 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3 bizi etkili teknoloji kullanımını destekleyecek belirli liderlik davranışlarına götürecektir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5795-E394-4D85-B9CD-E6D47EE8C7FA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ül 3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tr-TR" sz="2000" spc="-1" strike="noStrike">
                <a:solidFill>
                  <a:srgbClr val="a6cae1"/>
                </a:solidFill>
                <a:latin typeface="Verdana"/>
              </a:rPr>
              <a:t>Liderlik Davranış ve Standartlarının İncelenmes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ül Soruları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Öğretim sürecinde teknoloji kullanımını desteklemek için hangi üç liderlik davranışının temel rol oynadığına inanıyorsunuz?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Yöneticilere yönelik hangi ulusal standartlar bulunmaktadır ve öğretim sürecinde teknolojinin etkili kullanımını desteklemek için hangi temel koşullar gereklidir?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46BB-B291-43A9-AB3C-3149D46D973A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ül 3 | Etkinlik 2 </a:t>
            </a:r>
            <a:br>
              <a:rPr sz="2200"/>
            </a:br>
            <a:r>
              <a:rPr b="1" lang="tr-TR" sz="2200" spc="-1" strike="noStrike">
                <a:solidFill>
                  <a:srgbClr val="a6cae1"/>
                </a:solidFill>
                <a:latin typeface="Verdana"/>
              </a:rPr>
              <a:t>Görsel Sıralama Aracını Tanımak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ffffff"/>
                </a:solidFill>
                <a:latin typeface="Verdana"/>
              </a:rPr>
              <a:t>Görsel Sıralama Aracı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 </a:t>
            </a:r>
            <a:br>
              <a:rPr sz="1800"/>
            </a:br>
            <a:r>
              <a:rPr b="0" lang="en-US" sz="18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http://educate.intel.com/tr/thinkingtools/visualranking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Sıralama için ve listelerdeki maddelerin karşılaştırılması için ücretsiz çevrimiçi kayna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Öğretmenlerin ve öğrencilerin üzerinde çalışabilecekleri serbest bir ala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2"/>
          <a:srcRect l="1275" t="25252" r="39370" b="40698"/>
          <a:stretch/>
        </p:blipFill>
        <p:spPr>
          <a:xfrm>
            <a:off x="3532320" y="4349880"/>
            <a:ext cx="5457600" cy="24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223C-180B-45B8-A319-9CC5742396C7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ül 3 | Etkinlik 1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tr-TR" sz="2200" spc="-1" strike="noStrike">
                <a:solidFill>
                  <a:srgbClr val="a6cae1"/>
                </a:solidFill>
                <a:latin typeface="Verdana"/>
              </a:rPr>
              <a:t>Görsel Sıralama Aracını Tanımak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Etkili teknoloji kullanımını desteklemede liderlik davranışlarını sıralamak ve karşılaştırmak için </a:t>
            </a:r>
            <a:r>
              <a:rPr b="0" i="1" lang="tr-TR" sz="1800" spc="-1" strike="noStrike">
                <a:solidFill>
                  <a:srgbClr val="ffffff"/>
                </a:solidFill>
                <a:latin typeface="Verdana"/>
              </a:rPr>
              <a:t>Görsel Sıralama Aracını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ullanı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endi önem sıranıza göre davranışları sıralayı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9BD6-6C19-4CF3-82A8-55ADE59FE23E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ül 3 | Etkinlik 2</a:t>
            </a:r>
            <a:r>
              <a:rPr b="1" lang="tr-TR" sz="2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200"/>
            </a:br>
            <a:r>
              <a:rPr b="1" lang="tr-TR" sz="2200" spc="-1" strike="noStrike">
                <a:solidFill>
                  <a:srgbClr val="a6cae1"/>
                </a:solidFill>
                <a:latin typeface="Verdana"/>
              </a:rPr>
              <a:t>Sisteme Giriş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Öğretme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Adı: </a:t>
            </a:r>
            <a:r>
              <a:rPr b="1" lang="tr-TR" sz="2000" spc="-1" strike="noStrike">
                <a:solidFill>
                  <a:srgbClr val="a6cae1"/>
                </a:solidFill>
                <a:latin typeface="Verdana"/>
              </a:rPr>
              <a:t>Eğitici Lider</a:t>
            </a:r>
            <a:r>
              <a:rPr b="1" lang="en-US" sz="2000" spc="-1" strike="noStrike">
                <a:solidFill>
                  <a:srgbClr val="a6cae1"/>
                </a:solidFill>
                <a:latin typeface="Verdana"/>
              </a:rPr>
              <a:t> </a:t>
            </a:r>
            <a:r>
              <a:rPr b="1" lang="tr-TR" sz="2000" spc="-1" strike="noStrike">
                <a:solidFill>
                  <a:srgbClr val="a6cae1"/>
                </a:solidFill>
                <a:latin typeface="Verdana"/>
              </a:rPr>
              <a:t>Öğretmen Adını buraya girin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akım Adı: </a:t>
            </a:r>
            <a:r>
              <a:rPr b="1" lang="tr-TR" sz="2000" spc="-1" strike="noStrike">
                <a:solidFill>
                  <a:srgbClr val="a6cae1"/>
                </a:solidFill>
                <a:latin typeface="Verdana"/>
              </a:rPr>
              <a:t>Kullanıcı</a:t>
            </a:r>
            <a:r>
              <a:rPr b="1" lang="en-US" sz="2000" spc="-1" strike="noStrike">
                <a:solidFill>
                  <a:srgbClr val="a6cae1"/>
                </a:solidFill>
                <a:latin typeface="Verdana"/>
              </a:rPr>
              <a:t>xx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xx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1’den 20’ye kadar size atanmış numaradır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Şifr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tr-TR" sz="2000" spc="-1" strike="noStrike">
                <a:solidFill>
                  <a:srgbClr val="a6cae1"/>
                </a:solidFill>
                <a:latin typeface="Verdana"/>
              </a:rPr>
              <a:t>Kullanıcı</a:t>
            </a:r>
            <a:r>
              <a:rPr b="1" lang="en-US" sz="2000" spc="-1" strike="noStrike">
                <a:solidFill>
                  <a:srgbClr val="a6cae1"/>
                </a:solidFill>
                <a:latin typeface="Verdana"/>
              </a:rPr>
              <a:t>xx</a:t>
            </a: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akım Adıyla aynı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Sonraki etkinliklerde hatırlayabilmeniz için Sisteme Giriş Bilgileri bölümüne bunları yazı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F3E1-93C5-484F-B59C-69FB5FAC5852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ül 3 | Etkinlik </a:t>
            </a:r>
            <a:r>
              <a:rPr b="1" lang="tr-TR" sz="2200" spc="-1" strike="noStrike">
                <a:solidFill>
                  <a:srgbClr val="ffffff"/>
                </a:solidFill>
                <a:latin typeface="Verdana"/>
              </a:rPr>
              <a:t>2</a:t>
            </a:r>
            <a:br>
              <a:rPr sz="2200"/>
            </a:br>
            <a:r>
              <a:rPr b="1" lang="en-US" sz="2000" spc="-1" strike="noStrike">
                <a:solidFill>
                  <a:srgbClr val="a6cae1"/>
                </a:solidFill>
                <a:latin typeface="Verdana"/>
              </a:rPr>
              <a:t>- </a:t>
            </a:r>
            <a:r>
              <a:rPr b="1" lang="tr-TR" sz="2000" spc="-1" strike="noStrike">
                <a:solidFill>
                  <a:srgbClr val="a6cae1"/>
                </a:solidFill>
                <a:latin typeface="Verdana"/>
              </a:rPr>
              <a:t>Davranışları Sınıflandırmak ve Sıralamak </a:t>
            </a:r>
            <a:br>
              <a:rPr sz="2000"/>
            </a:br>
            <a:r>
              <a:rPr b="1" lang="en-US" sz="2000" spc="-1" strike="noStrike">
                <a:solidFill>
                  <a:srgbClr val="a6cae1"/>
                </a:solidFill>
                <a:latin typeface="Verdana"/>
              </a:rPr>
              <a:t>- </a:t>
            </a:r>
            <a:r>
              <a:rPr b="1" lang="tr-TR" sz="2000" spc="-1" strike="noStrike">
                <a:solidFill>
                  <a:srgbClr val="a6cae1"/>
                </a:solidFill>
                <a:latin typeface="Verdana"/>
              </a:rPr>
              <a:t>Sıralamaları Karşılaştırmak ve Tartışmak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Sisteme giri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unu zaten yapmıştınız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Sınıflandırın ve sıralayın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arşılaştırın ve tartışın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aydedin ve sistemden çıkın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E9AB-21B1-4C5C-B6BD-03EC1486A1B3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Sizin hedef(ler)iniz nedir?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Neler bekliyorsunuz?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Başlarken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|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Etkinlik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1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Kazanımlar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791B-BCB6-4225-B9C9-52284D541774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Lider Davranışlarının Sıralanması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En Önemlileri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Vizyonun paylaşımı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Ia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Araştırmayı temel alma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I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eknoloji ortamının desteklenmesi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IIb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Nitelikli teknoloji kullanımı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II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eknoloji kullanımında model olma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IIIa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aynakların dağıtımı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IVc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Personelin değerlendirilmes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Vc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Eşit erişim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VIa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izlilik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üvenlik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VIc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8ECA-2742-4D4C-974B-4157BC14A75F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3 | Etkinlik 3</a:t>
            </a:r>
            <a:br>
              <a:rPr sz="2600"/>
            </a:br>
            <a:r>
              <a:rPr b="1" lang="tr-TR" sz="2400" spc="-1" strike="noStrike">
                <a:solidFill>
                  <a:srgbClr val="a6cae1"/>
                </a:solidFill>
                <a:latin typeface="Verdana"/>
              </a:rPr>
              <a:t>Yöneticiler için Standartları Anlamak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STE – 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Eğitim Teknolojisi Uluslararası Topluluğu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ETS – 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Ulusal Eğitim Teknolojisi S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andar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tlar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ETS “</a:t>
            </a:r>
            <a:r>
              <a:rPr b="1" lang="tr-TR" sz="16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 </a:t>
            </a:r>
            <a:r>
              <a:rPr b="1" lang="tr-TR" sz="1600" spc="-1" strike="noStrike">
                <a:solidFill>
                  <a:srgbClr val="ffffff"/>
                </a:solidFill>
                <a:latin typeface="Verdana"/>
              </a:rPr>
              <a:t>Yöneticiler içi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ETS “</a:t>
            </a:r>
            <a:r>
              <a:rPr b="1" lang="tr-TR" sz="16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 </a:t>
            </a:r>
            <a:r>
              <a:rPr b="1" lang="tr-TR" sz="1600" spc="-1" strike="noStrike">
                <a:solidFill>
                  <a:srgbClr val="ffffff"/>
                </a:solidFill>
                <a:latin typeface="Verdana"/>
              </a:rPr>
              <a:t>Öğretmenler içi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ETS “</a:t>
            </a:r>
            <a:r>
              <a:rPr b="1" lang="tr-TR" sz="16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 </a:t>
            </a:r>
            <a:r>
              <a:rPr b="1" lang="tr-TR" sz="1600" spc="-1" strike="noStrike">
                <a:solidFill>
                  <a:srgbClr val="ffffff"/>
                </a:solidFill>
                <a:latin typeface="Verdana"/>
              </a:rPr>
              <a:t>Öğrenciler için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4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0340-0FF9-4A00-B176-AC28EAA3C05F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ül 3 | Etkinlik 3</a:t>
            </a:r>
            <a:br>
              <a:rPr sz="2200"/>
            </a:br>
            <a:r>
              <a:rPr b="1" lang="en-US" sz="2000" spc="-1" strike="noStrike">
                <a:solidFill>
                  <a:srgbClr val="a6cae1"/>
                </a:solidFill>
                <a:latin typeface="Verdana"/>
              </a:rPr>
              <a:t>ISTE NETS-A Standar</a:t>
            </a:r>
            <a:r>
              <a:rPr b="1" lang="tr-TR" sz="2000" spc="-1" strike="noStrike">
                <a:solidFill>
                  <a:srgbClr val="a6cae1"/>
                </a:solidFill>
                <a:latin typeface="Verdana"/>
              </a:rPr>
              <a:t>tlarını İncelemek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28480" y="1084320"/>
          <a:ext cx="4043520" cy="4343400"/>
        </p:xfrm>
        <a:graphic>
          <a:graphicData uri="http://schemas.openxmlformats.org/drawingml/2006/table">
            <a:tbl>
              <a:tblPr/>
              <a:tblGrid>
                <a:gridCol w="4043520"/>
              </a:tblGrid>
              <a:tr h="598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Liderlik ve Vizy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65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Öğrenm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Öğret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I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rimlili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Mesleki Uygulamalar/Üstlenilen Görevler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89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V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Deste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Yönetim 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İşlemlikl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70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V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Değerlendir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V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Sosyal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Yasal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Et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i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Konul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13A7-1E19-4C39-93AE-78910B6C4ACD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ül 3 | Etkinlik 4:</a:t>
            </a:r>
            <a:br>
              <a:rPr sz="2200"/>
            </a:br>
            <a:r>
              <a:rPr b="1" lang="en-US" sz="2000" spc="-1" strike="noStrike">
                <a:solidFill>
                  <a:srgbClr val="7eadd0"/>
                </a:solidFill>
                <a:latin typeface="Verdana"/>
              </a:rPr>
              <a:t>Sıralamayı Tekrar Gözden Geçirmek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elirlediğiniz en önemli lider davranışlarını hatırlayın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ETS-A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örsel Düzenleyicisinde yer alanlar ile kendi belirlediklerinizi karşılaştırı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rubunuzla/arkadaşınızla yaptığınız karşılaştırma sonuçlarınızı paylaşı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5174-2A60-446B-8949-BF0411DBB5FA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3 Soru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ül 3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’ün bana en çok yardımcı olduğu konu…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ffffff"/>
                </a:solidFill>
                <a:latin typeface="Verdana"/>
              </a:rPr>
              <a:t>Görsel Sıralama Arac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STE NETS-A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örsel Düzenleyicis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irlikte Konuşma ve Düşün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1C35-29BB-423D-9C29-FE7E2D942913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4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Eylem Planınızı Geliştirme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Teknoloji kullanımının nasıl olduğunu ve etkili teknoloji kullanımını destekleyecek liderlik davranışlarının neler olduğunu gördükten sonra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bu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Modül 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kişisel eylem planınızı geliştirirken  öğrendiklerinizi uygulamanıza yardımcı olacaktır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4775-5301-405E-9A07-F4313AE94510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4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Kendi Eylem Planınızın Yapılandırılması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ül Sorus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u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kulumda ya da ilimde/ilçemde teknolojiden etkili ve verimli biçimde yararlanmak için kişisel olarak neler yapabilirim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Kısa, orta ve uzun vadede hangi liderlik davranışlarını sergileyebilirim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4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7EE7-373D-4783-8718-BBE863A19FF8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ül 4 | Etkinlik 1</a:t>
            </a:r>
            <a:br>
              <a:rPr sz="2200"/>
            </a:br>
            <a:r>
              <a:rPr b="1" lang="tr-TR" sz="2200" spc="-1" strike="noStrike">
                <a:solidFill>
                  <a:srgbClr val="a6cae1"/>
                </a:solidFill>
                <a:latin typeface="Verdana"/>
              </a:rPr>
              <a:t>Eylem Planı Şablonunu İncelemek</a:t>
            </a:r>
            <a:br>
              <a:rPr sz="2200"/>
            </a:br>
            <a:br>
              <a:rPr sz="2200"/>
            </a:b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728640" y="1609560"/>
          <a:ext cx="7964640" cy="4268880"/>
        </p:xfrm>
        <a:graphic>
          <a:graphicData uri="http://schemas.openxmlformats.org/drawingml/2006/table">
            <a:tbl>
              <a:tblPr/>
              <a:tblGrid>
                <a:gridCol w="2701800"/>
                <a:gridCol w="1847880"/>
                <a:gridCol w="1663920"/>
                <a:gridCol w="1751040"/>
              </a:tblGrid>
              <a:tr h="305640"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Standar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Kısa Va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Orta Va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Uzun Va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54612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114480" indent="-114480">
                        <a:tabLst>
                          <a:tab algn="l" pos="0"/>
                          <a:tab algn="l" pos="11448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Liderlik ve Vizy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171360" indent="-171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Öğrenm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Öğret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I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rimlili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Üstlenilen Görevl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V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Deste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Yönetim 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işleml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V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Değerlendir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V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Sosyal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Yasal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Et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i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Konul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Rectangle 93"/>
          <p:cNvSpPr/>
          <p:nvPr/>
        </p:nvSpPr>
        <p:spPr>
          <a:xfrm>
            <a:off x="706320" y="492120"/>
            <a:ext cx="823752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Kişisel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Eylem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Plan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ı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tr-TR" sz="1800" spc="-1" strike="noStrike">
                <a:solidFill>
                  <a:srgbClr val="ffffff"/>
                </a:solidFill>
                <a:latin typeface="Verdana"/>
              </a:rPr>
              <a:t>KİŞİSEL olarak ne yapabilirim?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4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DB1C-8B6C-409C-B8C9-DD8F475BDB4A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4 | Etkinlik 1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Eylem Planı Örneği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243000" y="1217520"/>
          <a:ext cx="8785080" cy="4686480"/>
        </p:xfrm>
        <a:graphic>
          <a:graphicData uri="http://schemas.openxmlformats.org/drawingml/2006/table">
            <a:tbl>
              <a:tblPr/>
              <a:tblGrid>
                <a:gridCol w="2981160"/>
                <a:gridCol w="2038320"/>
                <a:gridCol w="1833480"/>
                <a:gridCol w="1932120"/>
              </a:tblGrid>
              <a:tr h="305640"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Standar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Kısa Va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Orta Va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Uzun Va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48888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114480" indent="-114480">
                        <a:tabLst>
                          <a:tab algn="l" pos="0"/>
                          <a:tab algn="l" pos="11448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Liderlik ve Vizy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171360" indent="-171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Öğrenm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Öğret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knoloji Komitesi: ISTE NETS-T ile ilgili öğretmenlere soru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I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rimlili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Üstlenilen Görevl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unum programının nasıl kullanılacağını öğrenin ve personel toplantılarında kullanı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V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Deste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Yönetim 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İşlemlerl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V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Değerlendir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İlköğretim 2. kademe için veri toplayıp analiz edebileceğiniz bir sistem kuru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20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V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Sosyal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Yasal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Et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i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Konul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71BC-70CF-4C7E-9CDF-C72BB3C99F73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4 | Etkinlik 1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İşlevsel Plan Oluşturma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İsteklili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Amaçlılı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erekli kaynakla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ağlantı kurulacak ya da sürece dahil edilecek kişil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ffffff"/>
                </a:solidFill>
                <a:latin typeface="Verdana"/>
              </a:rPr>
              <a:t>Bu konuda düşündüğünüz başka bir şey var mı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64A9-5A59-48CF-B69B-85B021BE8220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orum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Hedefleri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82280" y="1101240"/>
            <a:ext cx="8240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Öğrenme-öğretme süreçlerinde teknolojinin etkili ve verimli biçimde kullanımını özendirmede, desteklemede ve bu konuda model ya da örnek olmada eğitim liderlerinin oynadığı önemli rolü inceleme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Mesleki gelişimi, uygulamaları ve öğrencilerin kalıcı öğrenmesini desteklemek için mevcut kaynakları ve teknoloji araçlarını saptamak, bunlara erişmek ve kullanma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Öğrencilerin daha kalıcı öğrenmesini sağlamak için teknolojiden yararlanmayı teşvik eden belirli liderlik davranışlarının bir listesini oluşturma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STE Temel Koşullarını ve Liderler/Yöneticiler için ISTE Ulusal Eğitim Teknolojisi Standartlarını (NETS-A) inlecemek, analiz etmek ve uygulama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Okulunuzda ya da ilinizde/ilçenizde uygulanacak bir Eylem Planı oluşturma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9C76-8FC5-4584-9755-1DD78D29F2C4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4 | Etkinlik 2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Eylem Planlarını Paylaşma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ylem planınızı uygularken ne tür sorunlarla karşı karşıya kalabilirsiniz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Önemli role sahip paydaşların sürece aktif katılımını nasıl sağlayacaksınız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lanınızı uygulamaya yönelik hangi acil eylemleri gerçekleştirmeye çalışırsınız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kulunuzda ya da ilinizde/ilçenizde teknoloji kullanımını yaygınlaştırmak ve geliştirmek için bireysel olarak olarak siz ne yapacaksınız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127B-C7FF-4A34-BE84-63EE32A88E5D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4 Soru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Eylem planı için planlama yaparken en fazla aşağıdakilerin hangisinden yardım aldınız?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Eylem Planı Şablonu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Eylem Planı Şablon örnekler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Ek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r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Eylem Planı fikirler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Ek D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Eylem Planına ilişkin eşleş-paylaş etkinliğ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C21B-8F91-49E5-A73B-C72FDB2D75E5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760" y="31104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4 | Etkinlik 3 </a:t>
            </a:r>
            <a:br>
              <a:rPr sz="2600"/>
            </a:br>
            <a:r>
              <a:rPr b="1" lang="en-US" sz="2600" spc="-1" strike="noStrike">
                <a:solidFill>
                  <a:srgbClr val="7eadd0"/>
                </a:solidFill>
                <a:latin typeface="Verdana"/>
              </a:rPr>
              <a:t>Sonraki Aşamaya Odaklanma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8" name="Picture 6" descr="book32.tiff"/>
          <p:cNvPicPr/>
          <p:nvPr/>
        </p:nvPicPr>
        <p:blipFill>
          <a:blip r:embed="rId1"/>
          <a:stretch/>
        </p:blipFill>
        <p:spPr>
          <a:xfrm>
            <a:off x="763560" y="1897200"/>
            <a:ext cx="780588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4004-56D6-4ABA-B69E-B4AB136CC673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4 | Etkinlik 4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Forumu Değerlendirme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Çevrimiçi ankete katılın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http://www.hmh-degerlendirme.com/intel/forum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bağlantısına gidin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Anketi tamamlamak için ekrandaki yönergeleri takip edin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04F1-D2E2-45C7-928C-FE52FCEDE1B3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Tebrikler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!!!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2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Öğretmen Programına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Liderlik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Forum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u’na katılımınızdan dolayı teşekkür ederiz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Teknoloji kullanımı konusundaki harcadığınız emek, zaman ve yorumlarınız için sizi tebrik ediyoruz!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0AD7-8AEE-4D27-BF35-88A5464AE985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452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Yöneticiler için Ulusal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Eğitim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Teknolojileri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Standar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tlarını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(NETS-A)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 biliyor musunuz?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6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Eve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6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Hayır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1519-7B83-4F76-A944-DF3EC05A7259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Başlarken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|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Etkinlik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2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Tanışma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Adını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Okulunuzu ya da iliniz/ilçeniz ile ilgili bilgil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örevini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6FDB-027E-4693-B547-81F995B89942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Başlarken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|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Etkinlik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3</a:t>
            </a:r>
            <a:br>
              <a:rPr sz="2600"/>
            </a:b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Eylem Planı Şablonuna Bakış</a:t>
            </a:r>
            <a:br>
              <a:rPr sz="2600"/>
            </a:b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Kişisel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Eylem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Plan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ı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tr-TR" sz="1800" spc="-1" strike="noStrike">
                <a:solidFill>
                  <a:srgbClr val="ffffff"/>
                </a:solidFill>
                <a:latin typeface="Verdana"/>
              </a:rPr>
              <a:t>KİŞİSEL olarak ne yapabilirim?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11120" y="1582560"/>
          <a:ext cx="8205840" cy="4329360"/>
        </p:xfrm>
        <a:graphic>
          <a:graphicData uri="http://schemas.openxmlformats.org/drawingml/2006/table">
            <a:tbl>
              <a:tblPr/>
              <a:tblGrid>
                <a:gridCol w="2782800"/>
                <a:gridCol w="1905120"/>
                <a:gridCol w="1714680"/>
                <a:gridCol w="1803240"/>
              </a:tblGrid>
              <a:tr h="305640"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Standar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t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 Alan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Kısa Va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Orta Va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Uzun Va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54612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114480" indent="-114480">
                        <a:tabLst>
                          <a:tab algn="l" pos="0"/>
                          <a:tab algn="l" pos="11448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Liderlik ve Vizy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171360" indent="-171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Öğrenm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Öğret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I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rimlili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Mesleki Uygulamalar/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Üstlenilen Görevler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V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Deste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Yönetim 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İşleml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V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Değerlendir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V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Sosyal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Yasal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Et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i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Konul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C34F-133D-4A4F-9C17-03E7E699FB75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orum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Gündemi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aşlarken |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Forumun Tanıtım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ül 1 |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İyi Uygulama ve Kaynakları İncelem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ül 2 |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Web 2.0 Teknolojilerini Keşfetm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ül 3 |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Liderlik Davranış ve Standartlarını İncelem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ül 4 |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Eylem Planını Geliştirm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Kapanış |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Değerlendir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2T08:57:28Z</dcterms:created>
  <dc:creator>Intel® Teach Program</dc:creator>
  <dc:description/>
  <dc:language>en-US</dc:language>
  <cp:lastModifiedBy>Levent SAGIROGLU (BilgeAdam)</cp:lastModifiedBy>
  <dcterms:modified xsi:type="dcterms:W3CDTF">2009-05-07T16:02:08Z</dcterms:modified>
  <cp:revision>143</cp:revision>
  <dc:subject/>
  <dc:title>Forum Presentation</dc:title>
</cp:coreProperties>
</file>